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960-74D5-4A92-A1A5-ABE9592B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0A2-3F34-476D-BBD5-6E92C513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114-116D-4379-BA58-D93D5E0C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FA9-5CA0-40C3-ADC5-E05AD2E7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777E-0D9B-4074-9EFC-FE0FBBD7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5BEF-254B-4298-9937-94D2CDA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8EEC-2CE9-4192-90CF-D232FEAC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49A4-DE74-425B-B00A-8B074E16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D364-2F0B-4AAA-9EAC-B9E458B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483C-B004-464D-8A03-774574D3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9C14-0C3C-40B1-90E8-72B0924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00F-A55B-4368-8AC1-F4A5BD74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A878-A52F-44D8-8B8F-EB47007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7D94-BC32-402F-B435-88681099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E955-D959-477E-95C6-824AF3D5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D1B5-BC51-4F91-8219-8094FA95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8DFB-FB21-419B-B516-0F83A7ED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D03-4B69-4024-BFA3-0A8534B6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50B-FC23-4640-B8C8-A8F80D5B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A73-14AF-4FB5-9544-F4E65C35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29E-AC1A-4151-9485-B9BF8AC5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E24-2A5A-45D8-91EB-09A89F5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114-8093-4FD7-B14F-CCDE9E44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EF9-25A4-4B49-8637-3C5AD09A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4014-2E58-4BAE-9479-C6F6CE15E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3C58-48BC-4FAA-AB82-A8923082C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00" y="260280"/>
            <a:ext cx="2428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Y llyffant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492360" y="1267920"/>
            <a:ext cx="4896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e llyffant wedi disgyn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wn i bydew (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i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) sydd 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yfnder o 30 met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" y="3933360"/>
            <a:ext cx="769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ob diwrnod mae’r llyffant yn dringo 3 metr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yny, ond mae’n disgyn yn ôl 2 fetr pob n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" y="5229000"/>
            <a:ext cx="76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awl diwrnod mae’ cymeryd i’r llyffant ddian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’r pydew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273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20:00:58Z</dcterms:created>
  <dc:creator>Carwyn</dc:creator>
  <dc:description/>
  <dc:language>en-US</dc:language>
  <cp:lastModifiedBy>Carwyn</cp:lastModifiedBy>
  <dcterms:modified xsi:type="dcterms:W3CDTF">2008-12-07T20:06:16Z</dcterms:modified>
  <cp:revision>1</cp:revision>
  <dc:subject/>
  <dc:title>Y llyffant</dc:title>
</cp:coreProperties>
</file>